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5743"/>
        <c:axId val="45262823"/>
      </c:barChart>
      <c:catAx>
        <c:axId val="35057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62823"/>
        <c:crosses val="autoZero"/>
        <c:auto val="1"/>
        <c:lblAlgn val="ctr"/>
        <c:lblOffset val="100"/>
        <c:noMultiLvlLbl val="0"/>
      </c:catAx>
      <c:valAx>
        <c:axId val="45262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57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F9CC-F0B1-4322-9B37-7931B4BF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5B4-6466-4C68-826C-F58F010E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106-24B3-4FC6-808A-80642697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0C9-EA82-48E2-8917-ECF6F466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B61-5BD4-4A5E-9E5F-61C8AE2F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EB8-3BB1-41A7-933B-49E34717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4AE-6DC8-4DD8-8C34-9A0D1C98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448A-6F37-4814-8A0E-DDFECA91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AD5-AB51-4BC1-90E8-330299B9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26B3-3D76-4737-965C-C1ABA972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3AD-9F62-4DF7-ADCB-89EE4FF6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FBE-1494-4F36-8A33-604D56C8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8D9E6-004E-46A0-B4D5-FEBEF4AFA1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